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7601A41-B4D6-4491-8F63-AAD723DB3950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B7BD464-9FCD-46DC-912A-BF3890FB78DD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2137-5ECE-48AB-9634-7DFC2F47A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54D54-D6BE-49E1-A4B8-D00287EB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BFD8D83-B7B7-4B0C-90EB-7CD06D078532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B9EAB-0E53-4268-9288-A77D0A481E8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41D3DA5-F165-4D2B-8F18-FBE1CECEFD1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2330357-B243-408F-91D4-01FB59C01E65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EED76CA-6E31-4538-88AC-83B3948723CA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649C774-0CA9-4958-BB2F-BBF3CCFC27A6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9151E4B-DD33-4220-BB9D-C1F6362A2692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E22CA-C5F0-4F2D-8064-80D28DFBF9B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B5E3A21-D012-46BE-9166-51F9F3862C4F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505B6EC-BE6B-44BB-8204-0F4A5EA80FC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8FBAA-25D0-4A0D-B841-D5F01DE25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3EB18CC-3B8F-43BB-8267-B335069ABD5A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F053B9-BB81-44E0-B316-187351A0CB5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A94C43-8456-45AB-B008-DE2A4A3B382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EE7426-722D-4D70-A97E-34DE7F20182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F751195-3015-4544-9FC4-1CE9DADC2E44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CF2B17-4F51-413A-94BA-C050C5F5869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083E1B-53F6-4C59-9EBB-180AAF7ED081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9F0C46-364F-4F7A-9ACC-EB69ADB5309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DE21C59-1705-4504-B752-B910C46DD246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232B76-8B0B-4F9F-82EF-389F45EAA1E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7F9-1958-4C3E-BECA-E19948FF5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257F792-74DB-4984-82A4-503B226D3E6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2EAB01-5AAF-492A-A158-A2AD12D0452C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1C3E1-2542-40C8-84BB-53F26D0884D2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51CEA-15C6-44B1-B2B5-E42197E557B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584E56-1CE9-4D22-A1F8-FFA57C83539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99181-6051-4328-871D-BF863759440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BD803E-B547-4FEC-A70E-41FEB4D8DFC8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D8A04E-6ADC-4D61-A0DF-FD9892C3BE0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D3E6DC-1522-42B8-A4F7-800B6825FEC2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5C7251-0E12-4E0D-8859-1ABA92945F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B5F787-FA41-4B82-97D8-0BF042F1FFCF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02AFC0-A463-484A-9B9B-234B55FF6E6B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9AD665-9A56-46E9-B439-026E0F4593F5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9DE89E-2F96-4993-8464-0AFE0D0B7CD7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CA32DBA-3D71-4697-924D-AB9CEB33BE7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7D5B66-A5BB-4778-89CF-24B350CB5E2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5534676-1A74-4856-8F76-949ACB2D13E3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8663FDB-0966-4E82-84CC-E18F8DFD272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296D1-9383-4E42-B9AB-88D00319AF55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8D604F-756C-4C87-9EF1-20F5A23F3F7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F524D12-3787-4919-A2AB-4EBBDDFB74D0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8BDC506-A0AA-47EC-B157-325689BDAA12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72AA0CD-9795-49BD-BF18-F2E7E7F74C78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3254D7-81E0-401D-A119-B9EF7781C402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BDD76D7-1DB3-4481-9666-3AE6784ADABD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57A83F-48D4-45AD-9B92-DEBCDD869DE2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0D73BDE-F771-46DC-9889-45CABA4D520C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4BFF0-99BC-4DB0-9B48-23F2C2F9821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D4FEA9-69A8-4F7C-99CC-BBAFEF1FF455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373972C-B4AC-405F-8EDF-C5D3DEF62D9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4B45BC-7B23-487E-9E43-DF41F2C99E39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6837BBE-0DD4-40DC-9305-BF2669C534E6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4162A2-7F75-420D-A95F-B98FB62EAFF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3449864-B9B2-4445-A6A4-B12B25BF037A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54CC6-081A-4E25-ABFD-F8E4DE4F47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049C5B-2E47-4C5F-8831-F735E3E78F9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540F95-4053-49D9-B791-6DF26269C25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D7E4B-00D7-4659-A259-0D1357CBC00B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5BCD36-7EDC-46C0-B562-053386CBAEF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2B46A5-F848-4007-AE61-BA1F6D594E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B706BF-93DA-46A4-AD73-3626A8D1D3E3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D287C-AC5D-49F0-8138-421CBDB9B125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553EA6-6B08-4E71-A316-2A71E6112257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5F793-347B-446F-83FF-A379CED90D77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7D1318-D3A6-41CC-A646-15CC01EA8F26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53B71-2C42-466D-84C7-ED3E83ADB9B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2739DF-D273-47AA-B075-D953876A35E5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26417B-D58D-46AD-AF29-66339A3832FC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D7B54A-C6F4-428A-807D-15A6051A69C9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F20F0B7-BD12-4466-8EC7-B2644879BB2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D100451-0761-4F03-A242-DED9F83956BF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AB71698-54F8-4537-A5E2-547886E01313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7E24EFD-E7CF-4860-9B56-7C86BCEE4B9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55DBBB3-06C3-442E-97E1-13CE29363A10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78F0D45-A397-4D1C-A87E-7A60C1EF1A9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FEC8B53-E940-49A9-904F-BD8C42F826B3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B855BCC-6B61-49E6-8916-507C931D06E0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D492BA1-97D8-49D1-8597-4B982E9F5C4D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2CDD26E-38FF-45A9-83C9-66338BC84CBE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DA7E5C7-A938-4E40-9AD6-33699E9FF33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BEA88D5-25C9-4EF3-8C90-DB17B15E02DB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57BE224-29A6-44D3-B29F-D0BFFFA8B9F8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1B99B7A-F4B9-4638-84CB-FEC6CBB29512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A7E80-AF03-42ED-B934-7473625514EF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D6C560A-97CB-48E1-B4CB-B3822F05CF3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43F098-7F5F-4B2A-92C8-7D73F0E1DC1A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BA02CC1-2081-4741-AA35-BE8D1462254A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D919BE-6949-4AF3-B124-33067E36F8B9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7D19D-81F7-460B-A5B2-B3945A07F4D7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690CD00-4901-482B-A8AB-E21475EA134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63C35CE-DDE8-422A-B763-7B09CA6B8454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61C741-31CB-44E2-8EAE-236431B88A8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92EEB16-03E2-4DCF-81BD-786270B3510D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7094-B7C7-4517-BCBB-E9CBD83B7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61CF0E-9372-4D21-AFEC-C4DC13D6D6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80EF03-215C-4E68-86A1-92B49118081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95819-B167-428B-8EA1-10A49AE20702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6CF00BB-AB0D-4461-8F63-27F729E0EEBF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80CBCE-ACF0-4416-BF95-EDC7AB43D8C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A0DDA-7D69-4766-8034-2A7CD762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72D73D-F6C6-4755-9670-7F2F3B77A1E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3F30980-75E7-40FD-BE3C-EB69C980366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EC4C1A-A1BF-4F37-BC32-066FF680C6F4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2502711-B5D6-4FA9-9AA3-3C3CB9D6597E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BFB2BF-7C90-4B89-9ABE-E360F544628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E892C8-C797-490C-AB1A-C74EB1002EA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A7505E-598D-4EF0-84D3-892FFC9AC78A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771A89-EDD4-4C32-BF9F-8D3C984EEA5A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357AF5-CA3B-4CB1-86DD-331733CF1F55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41A6E7-37ED-47B0-812D-F0F1C31909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0BB36-11BA-4FAA-A391-232D533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81DF32-814E-41C2-AF16-0240DA22C91D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E6B52BD-5FD6-4086-A95E-0F088877189E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CCE1B-53B6-403B-9828-B82B0134C15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21BF25F-C630-4DEF-9F61-5D9344EF6E8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84CABDD-B28B-4676-A85F-508BC345584F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0F0795-4841-4B12-8B6D-9FD6315125C4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B85FD3-2240-4F8F-A5BF-56D44FA9D90C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7E3EFB-92FC-4A0C-B4DB-7E933B294C4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291DD61-A8D7-4227-9249-12A675823123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3F7E8-3077-4CDF-B3FD-03B68267A3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DB62A-9134-4432-B9B9-D34C0ADFA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E1306-F026-4341-9EBC-D7427F4DE6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6902-8D46-42C3-9EF3-E5934A248512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27E37-F4E9-40EB-BB8C-86559AEAB5B8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9C949-895E-490A-932A-69DAFEC0156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2FAD8-4213-435A-B886-481054E45BA1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403E-0493-443F-836D-1F41BFB14E37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4C32F-7B8D-49E6-B8AE-385D130D1F30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98473-1A3F-475F-8926-C9919EFDC38B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4000A-DC66-4E57-A1CA-70784DE2A5A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939CA-247E-4EA5-92AA-A3E5170B9C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7EB9-4C10-46EB-A5CA-2ECF1349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EE7FC-1E87-4530-8498-26A1AE7669A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F253642-7D43-47B6-BD66-A938138FA556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D96B94-1B84-4CFB-B42B-E5DF57B93AB3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D53A675-886C-4EA9-B4A9-E9BE4C69D10C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84EDF0B-86B2-4A91-BFF6-02CD1724C969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4F0D8BE-0C7E-4039-ADBB-BE023D8C1BE6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7C16D4-CB3B-4EE6-BB42-9094C2EC5870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14AF805-FF1B-40BE-A249-26A91A4705F8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D1A1906-DFB6-47B2-8CC0-400E4C549E44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E09B46C-9794-4803-B84A-0BE9807F9A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93BC-6EBC-4BD5-B678-F9A5E9250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22C2EB-C375-4169-B1FD-F49153221FBC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1ABFF4-FAB1-4C8B-B95D-923F863332C2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E9C082-9B4B-4B8C-9953-43FBC32B56D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B8EA94E-9037-44CA-B2EC-AC31D1E5FBB5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54A0392-EF36-437C-962A-77D7A175617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18BC20-F67D-4FE5-87B9-0792B5B0D715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9D24FD0-927C-4F32-8879-295716782757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FAE1B3D-28AE-4866-9BF5-AD08DB63323D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67C19F-269A-45A6-BEBB-D4234BDC9F08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74B4D7F-7551-43D9-8BB3-4F735315A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D1F51-6829-43A9-9FEC-15AFA4E8D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C8C9C4-DE45-4E21-AC25-75922C8A5DF3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C9180D-4EA3-42B2-890C-0DCE3E10D8D5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1F61B6-CF5E-4792-86D6-8DB89C95ED7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DBAD337-8355-4EF8-BBA3-D38A64499BBD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1C4EFC-9A93-44A8-AD28-3AA0FBC48C7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46CDA9-1BD2-4865-92FE-8946AF11B16A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213A0B-A464-4631-B49E-83ACDD88440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E1C0CA-A28D-4881-A920-972CAE56BAAC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6AB603-3EF0-4D70-B77F-31B543B3B5D4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2A0D32-3B8A-49BB-933F-E6911D31FB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4B617-5B3A-4AC0-8837-C60BFBFC2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F0547E-4B82-4155-AC6D-71CAAA342B6E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E4D5AB-85D6-433E-A1E0-807A2BF5A7D7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CD240C-858D-4846-8AC7-0DCB86D98B63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10FF1-D8A6-4067-B293-A4967AABD016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E0073-7787-40D2-B2E9-FC0990671D57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CB1CF9-0AFF-4BB2-9C97-FA649CF726C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FE676-2A89-4D04-AAE7-560BF363AFC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6E7365-BF57-4A7B-B0E6-FB8030AB5626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CD64C3-98DE-4204-94AB-CB7F7728A8A8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E25BDDD-84A4-4C99-A068-964D9D7076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08BE75-4B2C-4E4C-973A-F55827ABA43F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7C4E498-68EA-4352-B4B5-CB462D7D7632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A5ED1B7-CFC0-4395-B8B0-B75487EFFDC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66D1E9A-2969-4903-92FE-7B1902E7CA3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24873E-D798-474D-B1A9-720DC5AA217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23E3397-8575-4235-9EBF-15E9C9C322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CB2E2B-84C8-4C09-9A79-DCAEBB41D25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ED78E2-CC4C-46D3-9B3C-433E8AFAA2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6F2010-8F36-4223-8A86-BD5C465D93C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04D7D90-B821-40BD-AC83-C73F7D6A8C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8DE333C-A5F6-47CD-90DA-E2A9D6C8ECA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95FAA94-393D-4F06-B28A-C8BF09640F0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912668D-C405-4896-A03B-8A6E1F9C058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CC3173-5508-4B20-BD29-339980B07B3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72C7745-A06B-4EEC-A961-510C8D7997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B36680-D93E-4685-9EDF-F62AE329FF0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hkdir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s://diku.no/" TargetMode="External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diku.no/espresso/login?1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diku.no/" TargetMode="Externa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 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178600"/>
            <a:ext cx="486864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ngļu valodā jāizmanto tāds partneru organizācijas nosaukums, kādu organizācija lieto pati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09B0177-C0A6-45BA-88A1-80FB6ACA4C3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3A23F34-332E-490F-B383-7F3B439A618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102141A-7749-446E-83BA-A53CEF0F0F8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8CA1969-92D5-4A75-B134-2E4D366ED9C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! Ja sagatavošanas vizītes pieteikums tiks atbalstīts, šie bankas rekvizīti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206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206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206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587240" y="104940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hkdir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Content Placeholder 1" descr=""/>
          <p:cNvPicPr/>
          <p:nvPr/>
        </p:nvPicPr>
        <p:blipFill>
          <a:blip r:embed="rId1"/>
          <a:stretch/>
        </p:blipFill>
        <p:spPr>
          <a:xfrm>
            <a:off x="1865160" y="981000"/>
            <a:ext cx="7010640" cy="501192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1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683320" y="4871880"/>
            <a:ext cx="2752560" cy="112428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" descr=""/>
          <p:cNvPicPr/>
          <p:nvPr/>
        </p:nvPicPr>
        <p:blipFill>
          <a:blip r:embed="rId4"/>
          <a:stretch/>
        </p:blipFill>
        <p:spPr>
          <a:xfrm>
            <a:off x="5722920" y="3594240"/>
            <a:ext cx="3156120" cy="95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 txBox="1"/>
          <p:nvPr/>
        </p:nvSpPr>
        <p:spPr>
          <a:xfrm>
            <a:off x="1828800" y="1252440"/>
            <a:ext cx="722304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25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espresso.diku.no/espresso/login?1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9" name="Picture 2" descr=""/>
          <p:cNvPicPr/>
          <p:nvPr/>
        </p:nvPicPr>
        <p:blipFill>
          <a:blip r:embed="rId2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50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dik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3" name="Picture 1" descr=""/>
          <p:cNvPicPr/>
          <p:nvPr/>
        </p:nvPicPr>
        <p:blipFill>
          <a:blip r:embed="rId2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7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 txBox="1"/>
          <p:nvPr/>
        </p:nvSpPr>
        <p:spPr>
          <a:xfrm>
            <a:off x="2012760" y="1775880"/>
            <a:ext cx="6870600" cy="4316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amā darba kārtīb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pic>
        <p:nvPicPr>
          <p:cNvPr id="763" name="Picture 7" descr=""/>
          <p:cNvPicPr/>
          <p:nvPr/>
        </p:nvPicPr>
        <p:blipFill>
          <a:blip r:embed="rId2"/>
          <a:stretch/>
        </p:blipFill>
        <p:spPr>
          <a:xfrm>
            <a:off x="-755640" y="-44280"/>
            <a:ext cx="10963440" cy="60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5FEBE58-E4BB-4202-A68D-A1D0A49D60A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 algn="ctr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206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3A4CDD-257E-4915-93B3-A7B26FDE2EF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1-09-07T10:03:46Z</dcterms:modified>
  <cp:revision>147</cp:revision>
  <dc:subject/>
  <dc:title>PowerPoint Presentation</dc:title>
</cp:coreProperties>
</file>